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FBF-B800-426A-A18C-1E5FED73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540-9B11-4381-9A70-AB1B2F5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C10-0A12-4C6F-BF38-10970361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F50-C751-44F0-ACC6-09697207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D33-8E21-41AB-9D27-62A285A1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FD-F2ED-44F3-A15C-33CBF2B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831-9D95-4CB6-8434-A246C7C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1AE-9CF2-4303-8239-CD812C7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9C4-36E3-4E0E-9413-BC7451B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5EC-D5CA-4234-B807-1911B7F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F7B-03DB-476C-BDFF-067E4AD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21D-2A59-4779-A52B-E62CD57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D2D-214E-4616-B73B-69280CE4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arth2class.org/er/students/256,1,Rock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Interior and 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3203640" cy="416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62520" cy="292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96396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7880" y="39625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362320"/>
            <a:ext cx="97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4760" y="5715000"/>
            <a:ext cx="196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77256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re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ypes of roc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present in the crust and at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th’s surf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have fundamentally diffe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ig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Igne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Sedi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Metamorp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5400" y="22860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0080" y="-47520"/>
            <a:ext cx="33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3640" cy="396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00" y="609480"/>
            <a:ext cx="90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oled and solidified fro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lt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e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nea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Earth’s su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el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pre-existing rocks requ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3074760" cy="23446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2793960" cy="195588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419720" y="3276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760" y="563868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0"/>
            <a:ext cx="8991720" cy="9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gneous Rock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bdivi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rusi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der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di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ar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ined texture due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low coo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light colo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usi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o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lass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ne-grain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pid c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hav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oi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degassing of m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dark colo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19280"/>
            <a:ext cx="6705720" cy="61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228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xtrus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volcanic)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trus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pluton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4680" y="152280"/>
            <a:ext cx="43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edimentary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1113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-existing rocks are weathered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rok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to fragments that accumul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the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ac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ement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so forms fro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cipit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ganism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420640" cy="358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2895480" cy="282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8814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0"/>
            <a:ext cx="8686800" cy="83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dimentary Roc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by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thific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nconsolidated sediments -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ac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ight of overlying sediments causes sediments to be reduced in volume b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0%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ressure and temperature causes some minerals to melt - filling spaces between remaining grai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hen harden to form a glue or cement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men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8520" y="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tamorphic R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0" y="685800"/>
            <a:ext cx="918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 whe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-exist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arth material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jected t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ess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emica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c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change the mineralog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composition and/or structure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3920" cy="2863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240048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2112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560" y="32767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920" y="5943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1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morphic R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rystalliz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ither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gneou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dimenta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ks by the acti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ny or all of the following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re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erature limit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0 °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p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mit i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lting temperat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agma for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etamorphic rock is determine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rent r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/T condi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4479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y rock type can become any o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 given time and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ng on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changes are reflected in th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CK CYC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arth’s I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u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 h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mposi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ns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mass/volume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2200"/>
            <a:ext cx="746784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The Rock Cycle"/>
          <p:cNvPicPr/>
          <p:nvPr/>
        </p:nvPicPr>
        <p:blipFill>
          <a:blip r:embed="rId1"/>
          <a:stretch/>
        </p:blipFill>
        <p:spPr>
          <a:xfrm>
            <a:off x="304920" y="181080"/>
            <a:ext cx="85341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nother version of the 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013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1400" y="5867280"/>
            <a:ext cx="84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olcanoworld.org/vwdocs/vwlessons/lessons/Metrocks/Metrocks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-160200"/>
            <a:ext cx="8686800" cy="10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ral key processes change roc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ather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physical and chemic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breakdown of r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por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transportation of from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the weathering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e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deposition of sediments after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transpor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Lithifi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sediments turning into rock by the processes of compaction and c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8600"/>
            <a:ext cx="800100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l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The heating of solid rock till i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tamorphis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changing of rock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, pressure &amp;chemically activ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ystal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growth of crystal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a cooling m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plift and exposu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The movement o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k to the surface by weathering &amp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osion, faulting e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rth2class.org/er/students/256,1,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by.edu/~bfrueger/141/316,4,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un.menloschool.org/~cfat/powerpoint/earth_science/276,5,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3720" y="228600"/>
            <a:ext cx="841536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ermost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ition is silicon and oxygen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d minerals and rock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ust is extremely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stency i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rock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ed of two general ty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ntinental c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ceanic cr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411880" cy="34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8451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ceani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rus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 (8-10 km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n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and f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ow ocean ba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tinenta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rust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0-70 km), ha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ow dens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form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lk of contin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ust consists of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ceanic Cru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brown)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tinental Crus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gree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26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3640" y="228600"/>
            <a:ext cx="67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ANTL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Middle thin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19320"/>
            <a:ext cx="8381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ed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sition is silic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oxygen-bas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so includes ir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agnesi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stency is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lasti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main regions, Upper and Lower Man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thospher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ock layer) - Contains part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pper mantl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all of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r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295280"/>
            <a:ext cx="8763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layer, but brit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esents outer ~100 km of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ck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here continents exist,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nn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oce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ow the lithosphere resides t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thenosphe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weak laye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95680"/>
            <a:ext cx="922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t softened and acts like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asti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weak, slow flowing, ye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l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100-350 km beneath Earth’s su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30556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Center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nsity =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sition is primaril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r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icke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ins two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uter 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qui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ner co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oli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71360" y="22860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840" y="990720"/>
            <a:ext cx="83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oc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a naturally occurring aggre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nera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med within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82720" cy="403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0280" y="2286000"/>
            <a:ext cx="278784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51080" y="624852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Delicate Arch, Arches Nat’l Park,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440" y="392436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asaltic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cadia Nat’l P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56240" y="762120"/>
            <a:ext cx="886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nera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/h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atur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ccur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norganic sol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Made of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ngle element or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fini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emical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rder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rrange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at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5400" y="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ck Types and the Rock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666880" cy="215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25905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23:44:29Z</dcterms:created>
  <dc:creator>Kevin Hoffmeyer</dc:creator>
  <dc:description/>
  <dc:language>en-US</dc:language>
  <cp:lastModifiedBy>Office 2004 Test Drive User</cp:lastModifiedBy>
  <dcterms:modified xsi:type="dcterms:W3CDTF">2009-02-28T17:06:33Z</dcterms:modified>
  <cp:revision>4</cp:revision>
  <dc:subject/>
  <dc:title>Rocks</dc:title>
</cp:coreProperties>
</file>